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AE3-558B-4991-BD11-E90A87B6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CF4-1F10-43A8-BE1E-732D150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3F3-167A-4834-8E30-D8E590F5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DBB-9A23-43F5-AAFC-E81702E0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071-1A95-4946-B491-5F4A868C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E51-79B4-4439-ABD9-CE9E1695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C07-60A1-41BB-8AB0-47B01B44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7DB-60F4-473B-9725-D1E8A32B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5DC-1BD8-4091-8F5D-C0DEAFD7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554-1731-49C3-988F-F4A3179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6D8-9441-400F-9547-F99535A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A2B-B17C-410E-8C8F-6A7D7F5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DC7D-B6B2-444F-BDE8-39CDB809C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844600">
            <a:off x="1819080" y="44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d9"/>
                </a:solidFill>
                <a:latin typeface="Tempus Sans ITC"/>
              </a:rPr>
              <a:t>Unit 8 (Chapter 32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1216000">
            <a:off x="418680" y="518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mpus Sans ITC"/>
              </a:rPr>
              <a:t>Corey Marino and Zach Green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-212760" y="66600"/>
            <a:ext cx="945360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butcher_baker_low-res.jpg"/>
          <p:cNvPicPr/>
          <p:nvPr/>
        </p:nvPicPr>
        <p:blipFill>
          <a:blip r:embed="rId1"/>
          <a:stretch/>
        </p:blipFill>
        <p:spPr>
          <a:xfrm>
            <a:off x="-6480" y="5175360"/>
            <a:ext cx="2487600" cy="1689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butcher_baker_low-res.jpg"/>
          <p:cNvPicPr/>
          <p:nvPr/>
        </p:nvPicPr>
        <p:blipFill>
          <a:blip r:embed="rId2"/>
          <a:stretch/>
        </p:blipFill>
        <p:spPr>
          <a:xfrm>
            <a:off x="6662880" y="5175360"/>
            <a:ext cx="2487600" cy="168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12011739.jpg"/>
          <p:cNvPicPr/>
          <p:nvPr/>
        </p:nvPicPr>
        <p:blipFill>
          <a:blip r:embed="rId3"/>
          <a:stretch/>
        </p:blipFill>
        <p:spPr>
          <a:xfrm>
            <a:off x="3578400" y="5254560"/>
            <a:ext cx="2145960" cy="160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48a54"/>
                </a:solidFill>
                <a:latin typeface="Calibri"/>
              </a:rPr>
              <a:t>The number of times per year that a dollar is spent on goods and servi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 = NGDP/Money Sto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cates the speed at which money circula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Determinan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frequency of cash infusions, efficiency of the payment system,  expected inflation rate and interest ra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or exampl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… a particular dollar bill may be used to purchase a tuxedo in January from a tailor; the tailor uses that dollar to buy a meatloaf from the butcher in March; the butcher uses that dollar to buy bread from the baker in June; the baker uses that dollar to purchase candlesticks from the candlestick-maker in Decemb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59259E-006 C -0.09513 0.03079 0.06094 0.00486 -0.26458 0.00209 C -0.2717 -0.00393 -0.27586 -0.00972 -0.28385 -0.01504 C -0.29392 -0.03287 -0.29409 -0.05833 -0.29843 -0.07963 C -0.30173 -0.13981 -0.31024 -0.19861 -0.31614 -0.2581 C -0.32065 -0.30486 -0.32065 -0.35208 -0.32899 -0.39791 C -0.32847 -0.43078 -0.32881 -0.46389 -0.32742 -0.49676 C -0.3269 -0.50833 -0.31961 -0.52315 -0.31614 -0.53333 C -0.30364 -0.57014 -0.29114 -0.62523 -0.25642 -0.63241 C -0.21892 -0.64884 -0.18524 -0.61782 -0.16284 -0.58078 C -0.15867 -0.57407 -0.15433 -0.56713 -0.15156 -0.55926 C -0.14687 -0.54606 -0.14027 -0.51828 -0.14027 -0.51828 C -0.13819 -0.49305 -0.13524 -0.46805 -0.13229 -0.44305 C -0.13124 -0.43379 -0.13038 -0.4243 -0.12899 -0.41504 C -0.12795 -0.40787 -0.12899 -0.39953 -0.12586 -0.39352 C -0.12135 -0.38449 -0.12361 -0.38935 -0.11961 -0.37847 C -0.10451 -0.38842 -0.09861 -0.4037 -0.08541 -0.41504 C -0.0802 -0.42453 -0.07361 -0.43217 -0.06614 -0.43866 C -0.05798 -0.45416 -0.05034 -0.4706 -0.04027 -0.48403 C -0.03923 -0.4875 -0.03836 -0.4912 -0.03715 -0.49467 C -0.03611 -0.49768 -0.03472 -0.50023 -0.03385 -0.50324 C -0.02829 -0.52176 -0.02708 -0.53842 -0.0177 -0.55486 C -0.01527 -0.56504 -0.01249 -0.56736 -0.00486 -0.56991 C 0.00053 -0.56852 0.00626 -0.56852 0.01129 -0.56574 C 0.01667 -0.56296 0.03403 -0.53727 0.03716 -0.53125 C 0.03994 -0.52616 0.0408 -0.51921 0.04358 -0.51412 C 0.04567 -0.51041 0.04931 -0.50879 0.05157 -0.50532 C 0.05678 -0.49722 0.05921 -0.48495 0.06268 -0.47523 C 0.06546 -0.44815 0.06129 -0.4162 0.07414 -0.39352 C 0.07639 -0.38194 0.07848 -0.37916 0.08716 -0.37639 C 0.09133 -0.37778 0.09601 -0.37824 0.10001 -0.38078 C 0.10521 -0.38403 0.11442 -0.39352 0.11442 -0.39352 C 0.11685 -0.39953 0.11962 -0.40787 0.1224 -0.41296 C 0.13594 -0.43588 0.12205 -0.40555 0.13542 -0.43241 C 0.14341 -0.44884 0.13334 -0.43379 0.14341 -0.44745 C 0.14445 -0.45023 0.14549 -0.45324 0.14653 -0.45602 C 0.14792 -0.45903 0.15001 -0.46157 0.15139 -0.46458 C 0.15452 -0.47153 0.15591 -0.48102 0.15799 -0.48819 C 0.16268 -0.50463 0.16824 -0.51805 0.17414 -0.53333 C 0.1816 -0.55324 0.18039 -0.57199 0.20001 -0.57847 C 0.20921 -0.57708 0.21858 -0.57731 0.22726 -0.5743 C 0.23108 -0.57291 0.23386 -0.56898 0.23716 -0.56574 C 0.2415 -0.56111 0.26337 -0.53657 0.26928 -0.52685 C 0.27205 -0.52222 0.27362 -0.51666 0.27587 -0.5118 C 0.28004 -0.50301 0.28872 -0.48611 0.28872 -0.48611 C 0.29393 -0.44282 0.28733 -0.39629 0.29514 -0.35486 C 0.29827 -0.33796 0.30018 -0.31597 0.30973 -0.30324 C 0.31355 -0.2875 0.32396 -0.27199 0.33386 -0.2625 C 0.33976 -0.26319 0.34584 -0.26273 0.35157 -0.26458 C 0.35938 -0.2669 0.37101 -0.28125 0.37587 -0.28611 C 0.38768 -0.29815 0.39584 -0.30741 0.40157 -0.32685 C 0.39862 -0.36366 0.40539 -0.36551 0.38542 -0.37199 C 0.37692 -0.37129 0.36824 -0.37129 0.35973 -0.36991 C 0.34879 -0.36805 0.34028 -0.35671 0.33056 -0.35069 C 0.31719 -0.33241 0.33247 -0.35139 0.31129 -0.33333 C 0.30591 -0.3287 0.29792 -0.31828 0.29358 -0.3118 C 0.28438 -0.29815 0.27379 -0.28078 0.26771 -0.26458 C 0.26199 -0.2493 0.25973 -0.23403 0.25313 -0.21944 C 0.25053 -0.19791 0.24497 -0.17916 0.23872 -0.15926 C 0.23247 -0.13981 0.22796 -0.12083 0.21928 -0.10324 C 0.21615 -0.09051 0.21181 -0.07916 0.20799 -0.06666 C 0.20626 -0.0544 0.20626 -0.04398 0.19827 -0.03657 C 0.18976 -0.01389 0.17449 -0.00717 0.15973 0.00648 C 0.10539 0.00486 0.08473 0.03148 0.07258 -0.01944 C 0.07483 -0.0375 0.07396 -0.03588 0.08716 -0.03241 C 0.09271 -0.02199 0.0948 -0.0118 0.09844 2.59259E-006 C 0.09792 0.00347 0.0981 0.00741 0.09671 0.01065 C 0.09271 0.01968 0.07674 0.0206 0.07101 0.02153 C 0.05105 0.01922 0.05174 0.02222 0.04185 0.00417 C 0.04376 -0.01921 0.03976 -0.01227 0.04671 -0.02153 E">
                                      <p:cBhvr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lding Money and Veloc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posit-creation formula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osit/Original Deposit x 1/RR = New Deposits Cre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can only occur if money is held in the ba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48a5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48a54"/>
                </a:solidFill>
                <a:latin typeface="Calibri"/>
              </a:rPr>
              <a:t>Velocity determined by the amount of M1 we are ho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less money held, the higher velocity will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A pile of notes in different currencies"/>
          <p:cNvPicPr/>
          <p:nvPr/>
        </p:nvPicPr>
        <p:blipFill>
          <a:blip r:embed="rId1"/>
          <a:stretch/>
        </p:blipFill>
        <p:spPr>
          <a:xfrm>
            <a:off x="4645080" y="2279520"/>
            <a:ext cx="4297320" cy="287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eller.jpg"/>
          <p:cNvPicPr/>
          <p:nvPr/>
        </p:nvPicPr>
        <p:blipFill>
          <a:blip r:embed="rId1"/>
          <a:stretch/>
        </p:blipFill>
        <p:spPr>
          <a:xfrm>
            <a:off x="6321600" y="3498840"/>
            <a:ext cx="2279520" cy="3035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quation of Ex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 x V = P x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ney Supply x Velocity = Nominal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s that the money value of GDP transactions must be equal to the product of the average stock of money times velo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8a54"/>
                </a:solidFill>
                <a:latin typeface="Calibri"/>
              </a:rPr>
              <a:t>Relates Money Supply to G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if more dollar bills are circulated than before, but each dollar bill is spent more slowly, total spending may not rise and GDP will not r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788 0.21898 C 0.16597 0.12176 0.16163 0.02361 0.16945 -0.07338 C 0.175 -0.32037 0.17466 -0.12824 0.17118 -0.65417 C 0.17101 -0.67014 0.15521 -0.6787 0.14531 -0.68194 C 0.11493 -0.70278 0.06927 -0.69421 0.04045 -0.69491 C 0.02118 -0.70324 0.04618 -0.69305 -0.00625 -0.6993 C -0.01562 -0.70046 -0.02587 -0.70625 -0.03524 -0.70787 C -0.26198 -0.70579 -0.48107 -0.69838 -0.70955 -0.69699 C -0.72135 -0.6919 -0.72969 -0.6919 -0.7434 -0.69051 C -0.74722 -0.68704 -0.75139 -0.68426 -0.75469 -0.67986 C -0.76562 -0.66528 -0.76007 -0.66875 -0.76927 -0.66481 C -0.77274 -0.65764 -0.77691 -0.65463 -0.78055 -0.64768 C -0.78003 -0.63194 -0.78246 -0.61528 -0.77882 -0.60023 C -0.77795 -0.59629 -0.77239 -0.60301 -0.77083 -0.60671 C -0.76979 -0.60926 -0.77187 -0.6125 -0.77239 -0.61528 C -0.77291 -0.61111 -0.77291 -0.60671 -0.77396 -0.60254 C -0.77569 -0.59537 -0.7783 -0.59606 -0.78212 -0.59167 C -0.7875 -0.58565 -0.79028 -0.57847 -0.7934 -0.57014 C -0.79444 -0.5581 -0.79548 -0.54722 -0.79826 -0.53588 C -0.80069 -0.51574 -0.80399 -0.49282 -0.80798 -0.47338 C -0.80955 -0.45347 -0.81389 -0.43495 -0.81597 -0.41528 C -0.81232 -0.31921 -0.80434 -0.22315 -0.81597 -0.12708 C -0.81528 -0.06042 -0.8191 0.01528 -0.80312 0.08148 C -0.80191 0.09861 -0.80382 0.12269 -0.7967 0.13727 C -0.79462 0.14792 -0.79236 0.15764 -0.78854 0.16736 C -0.78767 0.17315 -0.78594 0.17871 -0.78524 0.18472 C -0.7842 0.19352 -0.78385 0.2206 -0.77882 0.22986 C -0.77587 0.23542 -0.75486 0.24583 -0.74982 0.24908 C -0.74479 0.25232 -0.74097 0.25463 -0.73698 0.25996 C -0.73559 0.26181 -0.73524 0.26482 -0.73368 0.26644 C -0.72951 0.27107 -0.71128 0.28449 -0.70625 0.28565 C -0.6993 0.28727 -0.69219 0.28727 -0.68524 0.28796 C -0.65225 0.30255 -0.62309 0.26875 -0.59184 0.26204 C -0.54618 0.26343 -0.50625 0.26667 -0.46111 0.26852 C -0.44653 0.27315 -0.4309 0.27384 -0.41597 0.27708 C -0.40347 0.28565 -0.38646 0.28704 -0.37239 0.29005 C -0.34288 0.2963 -0.31319 0.30162 -0.28368 0.30718 C -0.24653 0.32176 -0.20764 0.31898 -0.16927 0.32014 C -0.14375 0.32639 -0.1243 0.32732 -0.0967 0.32871 C -0.08802 0.33056 -0.07934 0.33241 -0.07083 0.33519 C -0.03837 0.33357 -0.03698 0.33357 -0.01441 0.32871 C -0.00416 0.31991 -0.01371 0.32685 0.0066 0.32222 C 0.02084 0.31898 0.03438 0.3125 0.04861 0.30949 C 0.07882 0.31088 0.10938 0.30972 0.13889 0.31806 C 0.14549 0.32246 0.15156 0.32917 0.15816 0.3331 C 0.16129 0.33496 0.16788 0.33727 0.16788 0.33727 C 0.17431 0.33658 0.18108 0.3375 0.18733 0.33519 C 0.18924 0.33449 0.18924 0.33079 0.19045 0.32871 C 0.19497 0.3213 0.19427 0.32269 0.20018 0.32014 C 0.20174 0.31875 0.2033 0.3169 0.20504 0.31574 C 0.2066 0.31482 0.20972 0.31597 0.2099 0.31366 C 0.21111 0.30255 0.20556 0.3007 0.20174 0.29421 C 0.19896 0.28958 0.18941 0.27408 0.18733 0.26852 C 0.18663 0.26644 0.18663 0.26389 0.18559 0.26204 C 0.18038 0.25185 0.18073 0.25926 0.18073 0.25347 E">
                                      <p:cBhvr>
                                        <p:cTn id="40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tity Theory of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Allows velocity to be a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es that velocity is basically constant; therefore, NGDP is proportional to money sto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ms the basis of monetarism; monetarists assume that velocity is nearly cons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velocity is not constant in the short run and, consequently, the strict quantity theory of money is not a good model of aggregate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Federal_Reserve.jpg"/>
          <p:cNvPicPr/>
          <p:nvPr/>
        </p:nvPicPr>
        <p:blipFill>
          <a:blip r:embed="rId1"/>
          <a:stretch/>
        </p:blipFill>
        <p:spPr>
          <a:xfrm>
            <a:off x="-6480" y="5632560"/>
            <a:ext cx="1640160" cy="123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Federal_Reserve.jpg"/>
          <p:cNvPicPr/>
          <p:nvPr/>
        </p:nvPicPr>
        <p:blipFill>
          <a:blip r:embed="rId2"/>
          <a:stretch/>
        </p:blipFill>
        <p:spPr>
          <a:xfrm>
            <a:off x="7510320" y="5632560"/>
            <a:ext cx="1640160" cy="123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ederal_Reserve.jpg"/>
          <p:cNvPicPr/>
          <p:nvPr/>
        </p:nvPicPr>
        <p:blipFill>
          <a:blip r:embed="rId3"/>
          <a:stretch/>
        </p:blipFill>
        <p:spPr>
          <a:xfrm>
            <a:off x="-6480" y="-6480"/>
            <a:ext cx="1640160" cy="123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Federal_Reserve.jpg"/>
          <p:cNvPicPr/>
          <p:nvPr/>
        </p:nvPicPr>
        <p:blipFill>
          <a:blip r:embed="rId4"/>
          <a:stretch/>
        </p:blipFill>
        <p:spPr>
          <a:xfrm>
            <a:off x="7510320" y="-6480"/>
            <a:ext cx="16401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interest-rates-headline.jpg"/>
          <p:cNvPicPr/>
          <p:nvPr/>
        </p:nvPicPr>
        <p:blipFill>
          <a:blip r:embed="rId1"/>
          <a:stretch/>
        </p:blipFill>
        <p:spPr>
          <a:xfrm>
            <a:off x="2054160" y="2359080"/>
            <a:ext cx="493704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ed Control of Money Supply and Interest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Fed cannot control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he demand curve for money shifts outward, the Fed must tolerate a rise in interest rates, a rise in the money stock, or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Fed tries to keep the Money Supply steady, then interest rates will rise sharply; if it tries to stabilize interest rates, then the Money Supply will in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Berlin Sans FB Demi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3" dur="5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" dur="5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59:36Z</dcterms:created>
  <dc:creator>Sth_User</dc:creator>
  <dc:description/>
  <dc:language>en-US</dc:language>
  <cp:lastModifiedBy>jwussler</cp:lastModifiedBy>
  <dcterms:modified xsi:type="dcterms:W3CDTF">2009-01-27T15:20:19Z</dcterms:modified>
  <cp:revision>10</cp:revision>
  <dc:subject/>
  <dc:title>Unit 8 (Chapter 32)</dc:title>
</cp:coreProperties>
</file>